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FFA-1358-4F7C-A0E3-88EE02F2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AF3-4D94-4E05-AB3D-7DD72E02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081-464D-437D-B7C8-0B09C7C3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03D-C8B3-4674-9354-3524BD29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96D5-0658-40EC-A3B8-F8DC8436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5AEE-92D9-4E85-9F86-26319730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3F82-919E-489A-B8D9-6F70670B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0907-34C2-4F3B-9626-4F06C835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4803-A4E9-44AD-ACE8-84848757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DFC7-89F7-4844-A2A6-9DA30CA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F59A-D7F0-45F9-9BF7-44AC63BD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638-AB4C-45C2-9BE9-EC483D3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716B-46B6-453A-A31F-A629416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4CB-EB94-49BE-B66C-7FF64609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5CF0-5F29-4646-A1A4-E1927C1E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F5E8-6B38-4DA9-8ED4-31899D40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58D8-08D1-4315-83D7-2AFBEAC5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BC3-786B-4DB8-B9A7-80CE0A8F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ED5-EEE7-459E-A3EC-2FD3C62B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112-4396-4575-AF9E-3ADB857C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F32-CC97-4A2B-B659-D1573747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D93-4109-4070-8717-BFCED037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71D-4B95-4AC4-9775-42C386F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743-B9DD-4CB8-8F64-D04D6C8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5AB-4E5A-4C32-A71C-A9A23B10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477-6F35-4A9F-BA87-47D424A9F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uter Bas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many types of computers inclu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put basically means getting data out of the compu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066680" y="297180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ph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5029200" y="25146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5146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orage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272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orage devices are both input and output devices in one.  A storage device is a place to keep data that has been processed so that it can be retrieved at a later time to be used aga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066680" y="441972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’s, DVD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gnetic Ta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sh Memory, Jump Dr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is the programs and applications that tell the computer what to do and how to loo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programmers write the codes/instructions that make-up software applications/progra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ML is a type of computer programming language that allows programmers to make web p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xt 2 slides show what HTML codes look like and the web page the codes produ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609480" y="192240"/>
          <a:ext cx="8153640" cy="61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2240"/>
                    <a:ext cx="815364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4"/>
          <p:cNvGraphicFramePr/>
          <p:nvPr/>
        </p:nvGraphicFramePr>
        <p:xfrm>
          <a:off x="609480" y="166680"/>
          <a:ext cx="8077320" cy="61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6680"/>
                    <a:ext cx="8077320" cy="61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 Types of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ng System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33840" y="1900080"/>
          <a:ext cx="234324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1900080"/>
                    <a:ext cx="23432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5315040" y="4129200"/>
          <a:ext cx="258120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5040" y="4129200"/>
                    <a:ext cx="25812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perating System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s all the activities and sets all the rules for how the hardware and software will work togeth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 would b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S, Windows 95, 98, ME, NT, X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x, Linux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C system OS 6,7,8,9,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mand Line Operating Syste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S is an example of a command line operating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 the next slide, Notice that there are n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cons (pictur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use Poin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t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have to memorize commands in order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use this text based operating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4"/>
          <p:cNvGraphicFramePr/>
          <p:nvPr/>
        </p:nvGraphicFramePr>
        <p:xfrm>
          <a:off x="609480" y="171360"/>
          <a:ext cx="8001000" cy="604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1360"/>
                    <a:ext cx="8001000" cy="604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perating Systems: GU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I stands for Graphical User Interf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pictures (icons) to represent files, folder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 drives, modems, printer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’s were created to make using a comput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er, more interesting, non-threaten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experienced us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use allows users to point at something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ake it work.  With command lin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to have all of the commands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your programs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e is an example of a G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Compu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percomputers...are used to process very large amounts of information including processing information to predict hurricanes, satellite images and navigation, and process military war scenari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inframes...are used by government and businesses to process very large amounts of inform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ini-Computers...are similar to mainframes...they are used by business and government to process large amounts of inform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ersonal Computers (PC)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4"/>
          <p:cNvGraphicFramePr/>
          <p:nvPr/>
        </p:nvGraphicFramePr>
        <p:xfrm>
          <a:off x="228600" y="380880"/>
          <a:ext cx="8686800" cy="59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68680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rams that work with operating system software to help the computer to do specific types of wor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are six basic types of application softwar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software: word processors, spreadsheets, and database progra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software: allows computers to communicate with other computers: fax software, Novell NetWare, AOL, Modem Softw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software: software that allows users to create and manipulate graphics...Photoshop, Print Shop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 and Reference software: Programs that help teach new material and ideas, and programs that can be used to find information...Encarta, Worldbook Encyclopedia, Jumpstart Kindergarten, MicroTy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tainment and Leisure software...Warcraft, Age of Empires, Barbie Design Center, Mrs.  Pacman, Solit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oftware: Combines several types of software into one program or package...Quicken (Spreadsheet/data base/communications/reference) or Print Shop (Graphics/Word processo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467000" y="1809720"/>
          <a:ext cx="212400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809720"/>
                    <a:ext cx="21240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6"/>
          <p:cNvGraphicFramePr/>
          <p:nvPr/>
        </p:nvGraphicFramePr>
        <p:xfrm>
          <a:off x="5576760" y="1752480"/>
          <a:ext cx="2057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6760" y="175248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9"/>
          <p:cNvGraphicFramePr/>
          <p:nvPr/>
        </p:nvGraphicFramePr>
        <p:xfrm>
          <a:off x="1447920" y="4038480"/>
          <a:ext cx="2004840" cy="20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038480"/>
                    <a:ext cx="20048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2"/>
          <p:cNvGraphicFramePr/>
          <p:nvPr/>
        </p:nvGraphicFramePr>
        <p:xfrm>
          <a:off x="5238720" y="3962520"/>
          <a:ext cx="2732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8720" y="3962520"/>
                    <a:ext cx="2732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Compu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sonal Computers (Continue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sonal Computers...also known as PC’s...are smaller and less powerful than the others.  They are used in homes, schools, and small busines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Compu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are 3 main types of P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able (Notebook/Lapto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portable (notebook/laptop) computers were first created they were HUGE.  They weighed around 100 lbs., and were carried in a large luggage suitcase.  The creators of the portable (notebook/laptop) computer dreamed that one day it would be the size a notebook or pocket dictionary.  With today’s technology, we have been able to accomplish this goal and more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nd-He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7315200" y="380880"/>
          <a:ext cx="14349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80880"/>
                    <a:ext cx="14349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etwork is a group of computers that share information and hardw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puters are connected together using copper phone wires, fiber optic cables, or radio wav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r computers are on a network here at school...Look under the table and see the blue wires that connect your computer to the net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ternet is many networks around the world that are all connected together to make 1 huge net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867280" y="228600"/>
          <a:ext cx="12956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860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7543800" y="233280"/>
          <a:ext cx="137160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33280"/>
                    <a:ext cx="13716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rts of a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15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two basic parts that make up a computer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990720" y="3657600"/>
          <a:ext cx="20574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65760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4"/>
          <p:cNvSpPr/>
          <p:nvPr/>
        </p:nvSpPr>
        <p:spPr>
          <a:xfrm>
            <a:off x="1143000" y="28195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38680" y="2819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5334120" y="3657600"/>
          <a:ext cx="213336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657600"/>
                    <a:ext cx="2133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rdware is basically anything that you can touch with your finge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1440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U (central processing unit...Pentium ch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 &amp; M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 Drive, Zip Drive, CD-ROM, DV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   D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ry (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ardware (Continue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three types/categories of 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14400" y="3048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.  Input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.  Output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.  Storage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5105520" y="2752560"/>
          <a:ext cx="3733560" cy="28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52560"/>
                    <a:ext cx="3733560" cy="28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put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put basically means getting data into the computer to be proces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28954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, Mous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ball, Touch P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Pen, Laser Scanne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ing St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uch Scree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 Code Reader, Sc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phone, Joyst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5181480" y="2895480"/>
          <a:ext cx="358164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95480"/>
                    <a:ext cx="358164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20:35:03Z</dcterms:created>
  <dc:creator>Tech Tech</dc:creator>
  <dc:description/>
  <dc:language>en-US</dc:language>
  <cp:lastModifiedBy>Jeff Hinton</cp:lastModifiedBy>
  <dcterms:modified xsi:type="dcterms:W3CDTF">2009-06-16T04:53:02Z</dcterms:modified>
  <cp:revision>28</cp:revision>
  <dc:subject/>
  <dc:title>Computer Basics</dc:title>
</cp:coreProperties>
</file>